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15A70-81D0-4BC8-92CD-D5B7567AB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65F7F-0AB8-43C8-AD40-FE1AF032A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E20CF-ED3C-4133-8238-EFC7F60A3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68E42-A905-49C3-A4CE-1F7FE2FAE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EF0BE-4A03-4FAE-B242-7335BBC04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50C12-D843-44E4-BEEA-5E1D14387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7F84A-8D29-4963-B50B-143ECE576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5804-F766-427F-A5A6-4BBDD0F17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EF3A2-EC53-48AC-9941-6337D9AF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4B86-90F8-45D8-AA4C-C002169EA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2F89-A21A-4153-90E5-A0080079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F58F-2111-4D4B-AF3A-5A3A8B261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B2D5-DB98-4D1E-8EC6-FEFC4F4612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mpressionisme vs. Classicisme</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Kins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ic Murphy</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an Gogh Self-portait</a:t>
            </a:r>
            <a:br>
              <a:rPr sz="4000"/>
            </a:br>
            <a:r>
              <a:rPr b="0" lang="en-US" sz="4000" spc="-1" strike="noStrike">
                <a:solidFill>
                  <a:srgbClr val="ffff99"/>
                </a:solidFill>
                <a:latin typeface="Arial"/>
              </a:rPr>
              <a:t>By: Van Gogh</a:t>
            </a:r>
            <a:endParaRPr b="0" lang="en-US" sz="4000" spc="-1" strike="noStrike">
              <a:solidFill>
                <a:srgbClr val="ffff99"/>
              </a:solidFill>
              <a:latin typeface="Arial"/>
            </a:endParaRPr>
          </a:p>
        </p:txBody>
      </p:sp>
      <p:sp>
        <p:nvSpPr>
          <p:cNvPr id="72"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crire : Je vois un homme, qui est Van Gogh et il porte un veston brun et ses cheveux sont très coupés court.</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nalyser : Ils utilisent beaucoup des couleurs froid dans cette peinture. Le sentiment est très calme et un peu déprime presqu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terpréter : Le but d'artistes était de faire un soi portrait de se. Il essaie de montrer ses émotions au temps et comment il n'était pas très heureux.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Juge : J'aime cette peinture parce qu'il utilise beaucoup de couleurs froid et c'est une peinture très calme. Je déteste cette peinture parce que c'est très simple et vraiment ne s'intéresse pas pour regarder.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3" name="Picture 8" descr="van-gogh-self-portrait-zen-monk1"/>
          <p:cNvPicPr/>
          <p:nvPr/>
        </p:nvPicPr>
        <p:blipFill>
          <a:blip r:embed="rId1"/>
          <a:stretch/>
        </p:blipFill>
        <p:spPr>
          <a:xfrm>
            <a:off x="4792680" y="1600200"/>
            <a:ext cx="3751200" cy="4525920"/>
          </a:xfrm>
          <a:prstGeom prst="rect">
            <a:avLst/>
          </a:prstGeom>
          <a:ln w="0">
            <a:noFill/>
          </a:ln>
        </p:spPr>
      </p:pic>
      <p:pic>
        <p:nvPicPr>
          <p:cNvPr id="74" name="cd1_-_05_-_coldplay_-_talk_107.mp3" descr=""/>
          <p:cNvPicPr/>
          <p:nvPr/>
        </p:nvPicPr>
        <p:blipFill>
          <a:blip r:embed="rId2"/>
          <a:stretch/>
        </p:blipFill>
        <p:spPr>
          <a:xfrm>
            <a:off x="4343400" y="617220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11382"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rtrait of a Royal Lady</a:t>
            </a:r>
            <a:br>
              <a:rPr sz="4000"/>
            </a:br>
            <a:r>
              <a:rPr b="0" lang="en-US" sz="4000" spc="-1" strike="noStrike">
                <a:solidFill>
                  <a:srgbClr val="ffffff"/>
                </a:solidFill>
                <a:latin typeface="Arial"/>
              </a:rPr>
              <a:t>By: David</a:t>
            </a:r>
            <a:endParaRPr b="0" lang="en-US" sz="4000" spc="-1" strike="noStrike">
              <a:solidFill>
                <a:srgbClr val="ffff99"/>
              </a:solidFill>
              <a:latin typeface="Arial"/>
            </a:endParaRPr>
          </a:p>
        </p:txBody>
      </p:sp>
      <p:sp>
        <p:nvSpPr>
          <p:cNvPr id="76"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s cette peinture il y a une fille qui assise dans un chaise rouge. L’artist etait debout devant d’elle. Le couleur seule utilise etait rouge et blance. Il n’est pas parti les coups des brosse. Mes yeux sont dessines a sa corde. Cette peinture </a:t>
            </a:r>
            <a:r>
              <a:rPr b="0" lang="fr-FR" sz="2400" spc="-1" strike="noStrike">
                <a:solidFill>
                  <a:srgbClr val="ffffff"/>
                </a:solidFill>
                <a:latin typeface="Arial"/>
              </a:rPr>
              <a:t>montre la profondeur par l'usage des lignes principal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 name="Picture 9" descr="David painting classicism"/>
          <p:cNvPicPr/>
          <p:nvPr/>
        </p:nvPicPr>
        <p:blipFill>
          <a:blip r:embed="rId1"/>
          <a:stretch/>
        </p:blipFill>
        <p:spPr>
          <a:xfrm>
            <a:off x="4971960" y="1600200"/>
            <a:ext cx="3394080" cy="4525920"/>
          </a:xfrm>
          <a:prstGeom prst="rect">
            <a:avLst/>
          </a:prstGeom>
          <a:ln w="0">
            <a:noFill/>
          </a:ln>
        </p:spPr>
      </p:pic>
      <p:pic>
        <p:nvPicPr>
          <p:cNvPr id="78" name="PSO050129_Beethoven_Sym5_I.mp3" descr=""/>
          <p:cNvPicPr/>
          <p:nvPr/>
        </p:nvPicPr>
        <p:blipFill>
          <a:blip r:embed="rId2"/>
          <a:stretch/>
        </p:blipFill>
        <p:spPr>
          <a:xfrm>
            <a:off x="4419720" y="6324480"/>
            <a:ext cx="30456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2512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soi sont les portrait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
          <p:cNvSpPr txBox="1"/>
          <p:nvPr/>
        </p:nvSpPr>
        <p:spPr>
          <a:xfrm>
            <a:off x="4723920" y="1600200"/>
            <a:ext cx="403884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Van Gogh soi portrait utilise beaucoup de couleurs fraîches pendant que le portrait de la madame royale utilise couleurs gris et  blanc. Le Van Gogh soi portrait est beaucoup plus réaliste pendant que le portait de la madame est presque comme une photograph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Impressionisme</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impressionisme. Je suis la lumière du soleil. Je suis comment on voit la monde. Je suis le paysage. Je suis beaucoup des couleurs sur la toile. Je suis lignes courb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Je suis l'impressionisme. Je suis créatif. J'aime comment on voit la monde. J'aime insister de la lumière. J'aime le monde par mes yeux. J'aime utiliser beaucoup de couleurs en vie. Je n'aime pas de lignes droites. </a:t>
            </a:r>
            <a:endParaRPr b="0" lang="en-US" sz="2800" spc="-1" strike="noStrike">
              <a:solidFill>
                <a:srgbClr val="ffffff"/>
              </a:solidFill>
              <a:latin typeface="Arial"/>
            </a:endParaRPr>
          </a:p>
        </p:txBody>
      </p:sp>
      <p:pic>
        <p:nvPicPr>
          <p:cNvPr id="45" name="Drew K.mp3" descr=""/>
          <p:cNvPicPr/>
          <p:nvPr/>
        </p:nvPicPr>
        <p:blipFill>
          <a:blip r:embed="rId1"/>
          <a:stretch/>
        </p:blipFill>
        <p:spPr>
          <a:xfrm>
            <a:off x="4419720" y="59436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89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Classicisme</a:t>
            </a: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Je suis la contrainte et le détail émotifs. Je suis la proportion et la figure. Aussi, je suis simple. Je suis pour l'Eglise et le Roi. Je suis très riche et dramatiqu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parce que j‘adore le détail et le vrai art. Aussi, j'aime les Romains. Mais, je suis le plus comme Classicisme parce que je suis parfait, toujours.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Eric M.mp3" descr=""/>
          <p:cNvPicPr/>
          <p:nvPr/>
        </p:nvPicPr>
        <p:blipFill>
          <a:blip r:embed="rId1"/>
          <a:stretch/>
        </p:blipFill>
        <p:spPr>
          <a:xfrm>
            <a:off x="4343400" y="563868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7303"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mpression: Soleil Levant</a:t>
            </a:r>
            <a:br>
              <a:rPr sz="4000"/>
            </a:br>
            <a:r>
              <a:rPr b="0" lang="en-US" sz="4000" spc="-1" strike="noStrike">
                <a:solidFill>
                  <a:srgbClr val="e3ebf1"/>
                </a:solidFill>
                <a:latin typeface="Arial"/>
              </a:rPr>
              <a:t>By: Manet</a:t>
            </a:r>
            <a:endParaRPr b="0" lang="en-US" sz="4000" spc="-1" strike="noStrike">
              <a:solidFill>
                <a:srgbClr val="ffff99"/>
              </a:solidFill>
              <a:latin typeface="Arial"/>
            </a:endParaRPr>
          </a:p>
        </p:txBody>
      </p:sp>
      <p:sp>
        <p:nvSpPr>
          <p:cNvPr id="50"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Le peinture a estompe lignes et fondu couleurs. Il y a deux bateaux avec peuple dans les bateaux. Le soleil est derriere les peuples.</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e: Les yeuxs sont dessines a ombre du soleil sur l’eau. Il a mouvement parce que l’eau est etre en mouvement. Le peinture donne sentiment de profondeu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ation: Tu as sombre et calme sentiment du peinture. Tu es entendus le son de l’eau avec waves sur la surface. Le corps de l’eau dans le peinture et le peuple dans les bateuxs il aime parce que le milieu n’est net pas et les bateuxs est net.</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dgement: J’aime le peinture parce que le calme sentiment de paysage. Je n’aime pas le peinture parce que je desi il ya a plus accent sur le milieu de les arbres et le cote.</a:t>
            </a:r>
            <a:endParaRPr b="0" lang="en-US" sz="1400" spc="-1" strike="noStrike">
              <a:solidFill>
                <a:srgbClr val="ffffff"/>
              </a:solidFill>
              <a:latin typeface="Arial"/>
            </a:endParaRPr>
          </a:p>
        </p:txBody>
      </p:sp>
      <p:pic>
        <p:nvPicPr>
          <p:cNvPr id="51" name="Picture 4" descr="impression"/>
          <p:cNvPicPr/>
          <p:nvPr/>
        </p:nvPicPr>
        <p:blipFill>
          <a:blip r:embed="rId1"/>
          <a:stretch/>
        </p:blipFill>
        <p:spPr>
          <a:xfrm>
            <a:off x="4648320" y="2362320"/>
            <a:ext cx="4046400" cy="3052800"/>
          </a:xfrm>
          <a:prstGeom prst="rect">
            <a:avLst/>
          </a:prstGeom>
          <a:ln w="0">
            <a:noFill/>
          </a:ln>
        </p:spPr>
      </p:pic>
      <p:pic>
        <p:nvPicPr>
          <p:cNvPr id="52" name="cd1_-_05_-_coldplay_-_talk_107.mp3" descr=""/>
          <p:cNvPicPr/>
          <p:nvPr/>
        </p:nvPicPr>
        <p:blipFill>
          <a:blip r:embed="rId2"/>
          <a:stretch/>
        </p:blipFill>
        <p:spPr>
          <a:xfrm>
            <a:off x="4267080" y="579132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138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L’Adoration des Bergers</a:t>
            </a:r>
            <a:br>
              <a:rPr sz="4000"/>
            </a:br>
            <a:r>
              <a:rPr b="0" lang="en-US" sz="4000" spc="-1" strike="noStrike">
                <a:solidFill>
                  <a:srgbClr val="dfc08d"/>
                </a:solidFill>
                <a:latin typeface="Arial"/>
              </a:rPr>
              <a:t>By: Lebrun </a:t>
            </a:r>
            <a:endParaRPr b="0" lang="en-US" sz="4000" spc="-1" strike="noStrike">
              <a:solidFill>
                <a:srgbClr val="ffff99"/>
              </a:solidFill>
              <a:latin typeface="Arial"/>
            </a:endParaRPr>
          </a:p>
        </p:txBody>
      </p:sp>
      <p:sp>
        <p:nvSpPr>
          <p:cNvPr id="54"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cette peinture les anges sont descendent du ciel et les gens dans le mangeoire regardent le bébé Jésus et Marie. L'artiste a utilisé couleurs des primaires, sauf le bleu. Il a essayé d'éliminer les coups de brosse. Mes yeux sont dessinés au secteur allumé autour de bébé Jésus. Cette image montre la profondeur par l'usage d'ombres. Il a choisi cette image parce que la religion était une partie majeure de vie de peuplades. J'aime que l'image est détaille et qu'il utilise la lumière pour diriger vos yeux.</a:t>
            </a:r>
            <a:endParaRPr b="0" lang="en-US" sz="1800" spc="-1" strike="noStrike">
              <a:solidFill>
                <a:srgbClr val="ffffff"/>
              </a:solidFill>
              <a:latin typeface="Arial"/>
            </a:endParaRPr>
          </a:p>
        </p:txBody>
      </p:sp>
      <p:pic>
        <p:nvPicPr>
          <p:cNvPr id="55" name="Picture 4" descr="adoration of the shepherds"/>
          <p:cNvPicPr/>
          <p:nvPr/>
        </p:nvPicPr>
        <p:blipFill>
          <a:blip r:embed="rId1"/>
          <a:stretch/>
        </p:blipFill>
        <p:spPr>
          <a:xfrm>
            <a:off x="4876920" y="2438280"/>
            <a:ext cx="3462120" cy="2438640"/>
          </a:xfrm>
          <a:prstGeom prst="rect">
            <a:avLst/>
          </a:prstGeom>
          <a:ln w="0">
            <a:noFill/>
          </a:ln>
        </p:spPr>
      </p:pic>
      <p:pic>
        <p:nvPicPr>
          <p:cNvPr id="56" name="PSO050129_Beethoven_Sym5_I.mp3" descr=""/>
          <p:cNvPicPr/>
          <p:nvPr/>
        </p:nvPicPr>
        <p:blipFill>
          <a:blip r:embed="rId2"/>
          <a:stretch/>
        </p:blipFill>
        <p:spPr>
          <a:xfrm>
            <a:off x="4495680" y="571500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2512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utilise beaucoup de couleurs différent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ont des figures dans eux</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est pas détaillé très pendant que l’adoration des bergers est très détaillé.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implique pas la religion pendant que l’adoration des bergers ont religion dans la pein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a Classe de Danse</a:t>
            </a:r>
            <a:br>
              <a:rPr sz="4000"/>
            </a:br>
            <a:r>
              <a:rPr b="0" lang="en-US" sz="4000" spc="-1" strike="noStrike">
                <a:solidFill>
                  <a:srgbClr val="d1d1cb"/>
                </a:solidFill>
                <a:latin typeface="Arial"/>
              </a:rPr>
              <a:t>By: Degas</a:t>
            </a:r>
            <a:endParaRPr b="0" lang="en-US" sz="4000" spc="-1" strike="noStrike">
              <a:solidFill>
                <a:srgbClr val="ffff99"/>
              </a:solidFill>
              <a:latin typeface="Arial"/>
            </a:endParaRPr>
          </a:p>
        </p:txBody>
      </p:sp>
      <p:sp>
        <p:nvSpPr>
          <p:cNvPr id="61" name="PlaceHolder 2"/>
          <p:cNvSpPr>
            <a:spLocks noGrp="1"/>
          </p:cNvSpPr>
          <p:nvPr>
            <p:ph/>
          </p:nvPr>
        </p:nvSpPr>
        <p:spPr>
          <a:xfrm>
            <a:off x="457200" y="1600200"/>
            <a:ext cx="4035600" cy="4525920"/>
          </a:xfrm>
          <a:prstGeom prst="rect">
            <a:avLst/>
          </a:prstGeom>
          <a:noFill/>
          <a:ln w="0">
            <a:noFill/>
          </a:ln>
        </p:spPr>
        <p:txBody>
          <a:bodyPr anchor="t">
            <a:normAutofit fontScale="99000"/>
          </a:bodyPr>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ription : Je vois beaucoup de danseurs sur une étape qui pratique une routine. Je vois que les lignes sont croustillantes dans les danseurs mais plus brouillé dans le fond. Le n’est pas beaucoup de couleurs ont utilisé, les couleurs seulement plus sombres avec le blanc.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nalyse : Les yeux est dessiné au danseur qui assise. Le travail montre le mouvement parce que les danseurs sont divers mouvements de danse. Le tableau donne une sensation de profondeur à cause du secteur derrière l'étape.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nterprétation : J'obtiens une sensation très bizarre quand je vois la peinture parce que je me sens comme vous épiez les danseurs. Vous entendriez les sons de musique. Les danseurs ont intéressé le plus a l’artistes parce qu'il les peint très clairement pendant que l’arriere-plan est plus mélangé.</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Jugement : J'aime cette peinture parce qu'il montre le mouvement façon. Je n'aime pas cette peinture parce qu'il a couleurs surtout très des sombres et il vous donne une sensation de malaise. </a:t>
            </a:r>
            <a:endParaRPr b="0" lang="en-US" sz="1400" spc="-1" strike="noStrike">
              <a:solidFill>
                <a:srgbClr val="ffffff"/>
              </a:solidFill>
              <a:latin typeface="Arial"/>
            </a:endParaRPr>
          </a:p>
        </p:txBody>
      </p:sp>
      <p:pic>
        <p:nvPicPr>
          <p:cNvPr id="62" name="Picture 4" descr="degdanceclass300"/>
          <p:cNvPicPr/>
          <p:nvPr/>
        </p:nvPicPr>
        <p:blipFill>
          <a:blip r:embed="rId1"/>
          <a:stretch/>
        </p:blipFill>
        <p:spPr>
          <a:xfrm>
            <a:off x="4724280" y="2209680"/>
            <a:ext cx="3975120" cy="3179880"/>
          </a:xfrm>
          <a:prstGeom prst="rect">
            <a:avLst/>
          </a:prstGeom>
          <a:ln w="0">
            <a:noFill/>
          </a:ln>
        </p:spPr>
      </p:pic>
      <p:pic>
        <p:nvPicPr>
          <p:cNvPr id="63" name="cd1_-_05_-_coldplay_-_talk_107.mp3" descr=""/>
          <p:cNvPicPr/>
          <p:nvPr/>
        </p:nvPicPr>
        <p:blipFill>
          <a:blip r:embed="rId2"/>
          <a:stretch/>
        </p:blipFill>
        <p:spPr>
          <a:xfrm>
            <a:off x="4724280" y="6019920"/>
            <a:ext cx="30492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1138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 in Arcadia Ergo</a:t>
            </a:r>
            <a:br>
              <a:rPr sz="4000"/>
            </a:br>
            <a:r>
              <a:rPr b="0" lang="en-US" sz="4000" spc="-1" strike="noStrike">
                <a:solidFill>
                  <a:srgbClr val="000000"/>
                </a:solidFill>
                <a:latin typeface="Arial"/>
              </a:rPr>
              <a:t>By: Poussin</a:t>
            </a:r>
            <a:endParaRPr b="0" lang="en-US" sz="4000" spc="-1" strike="noStrike">
              <a:solidFill>
                <a:srgbClr val="ffff99"/>
              </a:solidFill>
              <a:latin typeface="Arial"/>
            </a:endParaRPr>
          </a:p>
        </p:txBody>
      </p:sp>
      <p:sp>
        <p:nvSpPr>
          <p:cNvPr id="65"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fr-FR" sz="1800" spc="-1" strike="noStrike">
                <a:solidFill>
                  <a:srgbClr val="000000"/>
                </a:solidFill>
                <a:latin typeface="Arial"/>
              </a:rPr>
              <a:t>Dans cette image les gens regardent une pierre tombale. L'artiste a utilisé beaucoup de couleurs différentes comme rouge et bleu, et aussi beaucoup de tons de terre. La texture de ce tableau serait lisse parce que l'artiste n'entasse pas sur la peinture. Mes yeux sont dessinés au secteur où les gens désignent. Cette image montre la profondeur par l'usage d'ombres. C’est un peinture triste parce que les gens se rendent compte qu'ils ne vivent pas pour toujours. J'aime cette image parce qu'il est détaillé et a un fort message.</a:t>
            </a:r>
            <a:endParaRPr b="0" lang="en-US" sz="1800" spc="-1" strike="noStrike">
              <a:solidFill>
                <a:srgbClr val="ffffff"/>
              </a:solidFill>
              <a:latin typeface="Arial"/>
            </a:endParaRPr>
          </a:p>
        </p:txBody>
      </p:sp>
      <p:pic>
        <p:nvPicPr>
          <p:cNvPr id="66" name="Picture 4" descr="Arcadian-Shepherds-L"/>
          <p:cNvPicPr/>
          <p:nvPr/>
        </p:nvPicPr>
        <p:blipFill>
          <a:blip r:embed="rId1"/>
          <a:stretch/>
        </p:blipFill>
        <p:spPr>
          <a:xfrm>
            <a:off x="4648320" y="2340000"/>
            <a:ext cx="4038480" cy="2886120"/>
          </a:xfrm>
          <a:prstGeom prst="rect">
            <a:avLst/>
          </a:prstGeom>
          <a:ln w="0">
            <a:noFill/>
          </a:ln>
        </p:spPr>
      </p:pic>
      <p:pic>
        <p:nvPicPr>
          <p:cNvPr id="67" name="PSO050129_Beethoven_Sym5_I.mp3" descr=""/>
          <p:cNvPicPr/>
          <p:nvPr/>
        </p:nvPicPr>
        <p:blipFill>
          <a:blip r:embed="rId2"/>
          <a:stretch/>
        </p:blipFill>
        <p:spPr>
          <a:xfrm>
            <a:off x="4267080" y="58672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42512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des figures représentées dans eux.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l'audience qui regarde en sur une scène ils ne sont pas supposés pour être une partie de.</a:t>
            </a:r>
            <a:endParaRPr b="0" lang="en-US" sz="2400" spc="-1" strike="noStrike">
              <a:solidFill>
                <a:srgbClr val="ffffff"/>
              </a:solidFill>
              <a:latin typeface="Arial"/>
            </a:endParaRPr>
          </a:p>
        </p:txBody>
      </p:sp>
      <p:sp>
        <p:nvSpPr>
          <p:cNvPr id="70" name=""/>
          <p:cNvSpPr txBox="1"/>
          <p:nvPr/>
        </p:nvSpPr>
        <p:spPr>
          <a:xfrm>
            <a:off x="4648320" y="1600200"/>
            <a:ext cx="403848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 </a:t>
            </a:r>
            <a:endParaRPr b="0" lang="en-US" sz="32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classe de danse utilise beaucoup de couleurs sombres pendant et in Arcadia Ergo utilise à couleurs beaucoup plus des vibrantes. La classe de danse a utilise les lignes plus floues pendant et in Arcadia ergo utilise à lignes plus des droi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40:49Z</dcterms:created>
  <dc:creator>dkinsel12</dc:creator>
  <dc:description/>
  <dc:language>en-US</dc:language>
  <cp:lastModifiedBy>Drew Kinsel</cp:lastModifiedBy>
  <dcterms:modified xsi:type="dcterms:W3CDTF">2012-03-23T01:06:45Z</dcterms:modified>
  <cp:revision>27</cp:revision>
  <dc:subject/>
  <dc:title>Impressionisme vs. Classicisme</dc:title>
</cp:coreProperties>
</file>